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4761-BD3E-4F0D-BBE0-F71EF142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6ED3-AC11-49C3-8522-A9F4410C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8F9F-9513-43B5-AD08-5BD83F9C5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9B3B-1E08-428C-A04B-B2B6B611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6D6C-C381-46A6-97FB-F2BBC125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2AFB-4C35-4C8D-B0CB-C73C24D0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A155-17D0-457B-BA2D-750CA52C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EE2D-E5C9-4210-A43E-17D69C17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D340-0BBF-443A-B0E5-0910CB20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C1A5-0662-4C58-97BA-ADA25545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56EB-9A85-45F9-9EB4-07A19C8D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0C0E-4F64-427F-89FD-910AD34A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050B-CA64-45D7-9070-EEE464A1A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3911760" cy="2934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724280" y="380880"/>
            <a:ext cx="3911760" cy="2934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07960" y="3543480"/>
            <a:ext cx="3911760" cy="2933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24280" y="3505320"/>
            <a:ext cx="3911760" cy="2933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327672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2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Stage Blade trailing ed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3276720"/>
            <a:ext cx="41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2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Stage Vanes, outer bushing.  Wear on bus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64008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inor Rotor to Case Rubs on 2</a:t>
            </a:r>
            <a:r>
              <a:rPr b="1" lang="en-US" sz="12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S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6400800"/>
            <a:ext cx="41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il Sheen throughout Compress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467480" y="236232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2362320"/>
            <a:ext cx="0" cy="457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7695720" y="2666880"/>
            <a:ext cx="76212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3911760" cy="2934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724280" y="380880"/>
            <a:ext cx="3911760" cy="2934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07960" y="3543480"/>
            <a:ext cx="3911760" cy="2933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724280" y="3543480"/>
            <a:ext cx="3911760" cy="2933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3520" y="3276720"/>
            <a:ext cx="807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inor Rotor to Case rubs, 4</a:t>
            </a:r>
            <a:r>
              <a:rPr b="1" lang="en-US" sz="12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&amp; 5</a:t>
            </a:r>
            <a:r>
              <a:rPr b="1" lang="en-US" sz="12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S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3911760" cy="2934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724280" y="380880"/>
            <a:ext cx="3911760" cy="2934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07960" y="3543480"/>
            <a:ext cx="3911760" cy="2933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4724280" y="3543480"/>
            <a:ext cx="3911760" cy="2933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3520" y="3276720"/>
            <a:ext cx="807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inor Metal Splatter 14</a:t>
            </a:r>
            <a:r>
              <a:rPr b="1" lang="en-US" sz="12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Stage with no apparent Leading edge damage.  Appears to be in good sh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3911760" cy="2934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724280" y="380880"/>
            <a:ext cx="3911760" cy="2934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07960" y="3543480"/>
            <a:ext cx="3911760" cy="2933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724280" y="3543480"/>
            <a:ext cx="3911760" cy="2933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3276720"/>
            <a:ext cx="82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inor burns on Dome Plate assy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8880" y="1600200"/>
            <a:ext cx="1295640" cy="1295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4267080"/>
            <a:ext cx="1295280" cy="129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1066680"/>
            <a:ext cx="1295280" cy="129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3911400" cy="2933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724280" y="228600"/>
            <a:ext cx="3911760" cy="2933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33520" y="3581280"/>
            <a:ext cx="3911400" cy="2934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4724280" y="3581280"/>
            <a:ext cx="3911760" cy="2934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3520" y="3124080"/>
            <a:ext cx="807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2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Stage Nozzles have some clogged cooling holes and also a blue-green mildew is present in the 1</a:t>
            </a:r>
            <a:r>
              <a:rPr b="1" lang="en-US" sz="12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stage shrou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64771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adial Cracking on all 1</a:t>
            </a:r>
            <a:r>
              <a:rPr b="1" lang="en-US" sz="12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stage blades vie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6477120"/>
            <a:ext cx="426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Gouging on 1</a:t>
            </a:r>
            <a:r>
              <a:rPr b="1" lang="en-US" sz="12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Stage shrouds and mild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4343400"/>
            <a:ext cx="1295640" cy="1371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3911760" cy="2934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724280" y="380880"/>
            <a:ext cx="3911760" cy="2934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07960" y="3543480"/>
            <a:ext cx="3911760" cy="2933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724280" y="3543480"/>
            <a:ext cx="3911760" cy="2933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" y="3276720"/>
            <a:ext cx="82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2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Stage Shroud Gouging and 1</a:t>
            </a:r>
            <a:r>
              <a:rPr b="1" lang="en-US" sz="12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Stage blade damage from impacting shrou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1371600"/>
            <a:ext cx="2895480" cy="1905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6400800"/>
            <a:ext cx="82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Burn through on convex side of 1</a:t>
            </a:r>
            <a:r>
              <a:rPr b="1" lang="en-US" sz="12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Stage Nozzle Platform.  TBC loss on Convex Surface of 1</a:t>
            </a:r>
            <a:r>
              <a:rPr b="1" lang="en-US" sz="12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Stage Nozz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5181480"/>
            <a:ext cx="838080" cy="838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7238880" y="3657600"/>
            <a:ext cx="533520" cy="2666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610480" y="3657600"/>
            <a:ext cx="0" cy="2666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3835440" cy="2876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60" y="3600360"/>
            <a:ext cx="3835440" cy="2876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800600" y="380880"/>
            <a:ext cx="3835440" cy="2876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800600" y="3600360"/>
            <a:ext cx="3835440" cy="2876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800600" y="320040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amage on Convex side of all 1</a:t>
            </a:r>
            <a:r>
              <a:rPr b="1" lang="en-US" sz="12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Stage Bl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77120" y="1219320"/>
            <a:ext cx="1143000" cy="1143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6400800"/>
            <a:ext cx="82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2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Stage Blades appear to be service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8:37:59Z</dcterms:created>
  <dc:creator>ggolden</dc:creator>
  <dc:description/>
  <dc:language>en-US</dc:language>
  <cp:lastModifiedBy>PES</cp:lastModifiedBy>
  <dcterms:modified xsi:type="dcterms:W3CDTF">2009-03-11T13:47:05Z</dcterms:modified>
  <cp:revision>6</cp:revision>
  <dc:subject/>
  <dc:title>Slide 1</dc:title>
</cp:coreProperties>
</file>